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17C-61A9-4643-B18D-14D19F20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D37-D957-4665-A4F6-95419749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3340-7C13-4670-8B10-AE3D4F67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F97-55B7-4A08-9BAD-B532B583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916D-9A98-4C89-96EE-04BAC0C7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7D78-6846-470F-A10B-893DD859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CA5-E636-4EE4-BCB4-F78E4BB9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C24-E810-4B51-BAC9-78F78DA5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949-6923-4049-83AD-4923C1CC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DC1-0122-4FB2-BE6E-68AA275B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262F-1AF1-4F82-B2A3-8BBA5099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1B2-5487-46DE-95C2-99DD0586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FB9E-86B9-4B15-BC28-D63864931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5:15:40Z</dcterms:created>
  <dc:creator>abeason</dc:creator>
  <dc:description/>
  <dc:language>en-US</dc:language>
  <cp:lastModifiedBy>abeason</cp:lastModifiedBy>
  <dcterms:modified xsi:type="dcterms:W3CDTF">2010-05-11T15:15:44Z</dcterms:modified>
  <cp:revision>1</cp:revision>
  <dc:subject/>
  <dc:title>Slide 1</dc:title>
</cp:coreProperties>
</file>